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7C7F-8211-4C68-8581-8CDB3C4E9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01B75-0E5C-43B1-9FF8-9F4148F42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00B8-0D63-49FD-9097-4DE99E4FD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66C35-519F-4BF6-BE61-E419FA592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C5D2F-54A7-469A-B1B7-A5F9D35CC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77FC-4C46-4FDD-8051-0DC2422D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50E6-4B83-4E06-AF9E-0722A6A18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F0A12-3723-4551-8BCB-727CF9ED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C578-037D-4C9C-B2EE-BCBDF2C0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60C2C-B162-4ED0-9AE0-99D0E2CA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33EE-E2D7-49F7-AFD2-EF47DE653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DE00-CA5B-4607-8822-53058282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9B5D8-3169-425D-8F3A-2DA0EFE94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16FE-6479-4A92-A411-D5B64E448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inte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Requirement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itate Phenote or FX? K-Pla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lades -&gt; Java migr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edit: FX vs bulk copy/edi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jax) or full web ap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 Maker? Character t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web page or same pag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composed? Relation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6):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cent Webby Phenot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reaper.lbl.gov/phenote/html/ncbo.htm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 OBO</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7 release ~August/September (we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31T20:48:25Z</dcterms:modified>
  <cp:revision>132</cp:revision>
  <dc:subject/>
  <dc:title>Phenote</dc:title>
</cp:coreProperties>
</file>